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0.jpeg" ContentType="image/jpeg"/>
  <Override PartName="/ppt/media/image6.gif" ContentType="image/gif"/>
  <Override PartName="/ppt/media/image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02CE-6918-4777-BCC2-8311AD7A4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DC8E-8E65-4630-A9E8-1FC8BEC5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9173-60F3-4AA5-94FF-664D52656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0652-C26C-4377-B826-74998490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5EA4-CF24-4B4F-84DF-27CAD47E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6CAE-2535-452D-8ABD-50DC39FF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8D42-B15B-46B2-B323-2476386B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81DB-B2D6-467D-8B1D-3A072D4B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DB06-6DF5-4CB8-A37D-14A4BAF3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C231-D118-47B8-9F94-F0566CB0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EAAE-288D-49B0-8EE3-B248DB14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ECB3-5C9D-4D4C-907A-D97D44CD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5C96-6AC3-4B0F-9891-6A03C709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4DF8-EF86-440B-AA3A-38A10D23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43EA-9E43-489E-BA77-EEAB2D07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EF6C-C8D5-45F4-8288-71C4F8DDA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19AE-5BDA-46CC-94F7-B3B44FAE2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E0E6-1CDC-4C74-922A-F2FC5E64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8954-D645-4BDF-BA28-DE046584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A2D5-0654-461F-AA51-A8E373D6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FB3E-5BE0-47DF-94D4-6676AB0D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95E5-09F6-4543-9B7D-D7B4350E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ACD9-F3BD-4BD3-8C0E-A52BBCEA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7BA7-B43B-45F5-B4B4-A6BC7309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1682-3965-4E21-88EA-5BA2C27D92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0449-C27C-4D13-BB32-0595CB0012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search.yahoo.com/search/images/view?back=http%3A%2F%2Fimages.search.yahoo.com%2Fsearch%2Fimages%3Fp%3Dhalo%2B3%26rs%3D0%26ei%3DUTF-8%26js%3D1%26ni%3D20%26fr%3Dmy-myy%26vf%3D&amp;w=767&amp;h=982&amp;imgurl=nikon.bungie.org%2Fmiscartimages%2Fhalo_explosion3.jpg&amp;rurl=http%3A%2F%2Fnikon.bungie.org%2Fmiscart.html%3Fitem%3D142&amp;size=215.9kB&amp;name=halo_explosion3.jpg&amp;p=halo+3&amp;type=jpeg&amp;no=5&amp;tt=136,768&amp;oid=5f49f73f14089bf2&amp;ei=UTF-8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search.yahoo.com/search/images/view?back=http%3A%2F%2Fimages.search.yahoo.com%2Fsearch%2Fimages%3Fp%3Dskeletal%2Bsystem%26ei%3DUTF-8%26fr%3Dmy-myy%26x%3Dwrt%26js%3D1%26ni%3D20&amp;w=176&amp;h=200&amp;imgurl=nmhm.washingtondc.museum%2Fnews%2Fimgs%2Fskeletal_sm.jpg&amp;rurl=http%3A%2F%2Fnmhm.washingtondc.museum%2Fnews%2Fhuman_body_revealed_old.html&amp;size=34.1kB&amp;name=skeletal_sm.jpg&amp;p=skeletal+system&amp;type=jpeg&amp;no=16&amp;tt=10,032&amp;oid=753a231322692f36&amp;ei=UTF-8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hyperlink" Target="http://images.search.yahoo.com/search/images/view?back=http%3A%2F%2Fimages.search.yahoo.com%2Fsearch%2Fimages%3Fp%3Dclavicle%26sp%3D1%26fr2%3Dsp-top%26ei%3DUTF-8%26fr%3Dmy-myy%26x%3Dwrt%26js%3D1%26ni%3D20%26ei%3DUTF-8%26SpellState%3Dn-4216884953_q-Imu4MTBq6VPJVu.Mkhfo6gAAAA%40%40&amp;w=600&amp;h=400&amp;imgurl=www.usm.maine.edu%2Fgany%2Fbonebuddies%2Fclavicle.jpg&amp;rurl=http%3A%2F%2Fwww.usm.maine.edu%2Fgany%2Fbonebuddies%2Fbud.htm&amp;size=37.4kB&amp;name=clavicle.jpg&amp;p=clavicle&amp;type=jpeg&amp;no=4&amp;tt=8,870&amp;oid=5ab2e59c445b161c&amp;ei=UTF-8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hapter 5: Skeletal System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Appendicular Skelet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44953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ul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lv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7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417680" cy="1828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01040" y="0"/>
            <a:ext cx="1542960" cy="1752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pogo3"/>
          <p:cNvPicPr/>
          <p:nvPr/>
        </p:nvPicPr>
        <p:blipFill>
          <a:blip r:embed="rId5"/>
          <a:stretch/>
        </p:blipFill>
        <p:spPr>
          <a:xfrm>
            <a:off x="7620120" y="5410080"/>
            <a:ext cx="804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bia and Fibul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724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b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hin b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ars the weight of the l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iculates with the femur,, fibula, and tarsal b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ul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parallel and lateral to the tib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7" descr="6868945"/>
          <p:cNvPicPr/>
          <p:nvPr/>
        </p:nvPicPr>
        <p:blipFill>
          <a:blip r:embed="rId4"/>
          <a:stretch/>
        </p:blipFill>
        <p:spPr>
          <a:xfrm>
            <a:off x="4876920" y="1600200"/>
            <a:ext cx="42670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n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tell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kneec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s positions of the quadriceps tendon and increase its leverage on the tib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 the knee to lock for bipedal locomo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Seif_knee%2520anatomy02"/>
          <p:cNvPicPr/>
          <p:nvPr/>
        </p:nvPicPr>
        <p:blipFill>
          <a:blip r:embed="rId3"/>
          <a:stretch/>
        </p:blipFill>
        <p:spPr>
          <a:xfrm>
            <a:off x="5181480" y="1523880"/>
            <a:ext cx="3740400" cy="4038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Seif_knee%2520anatomy01"/>
          <p:cNvPicPr/>
          <p:nvPr/>
        </p:nvPicPr>
        <p:blipFill>
          <a:blip r:embed="rId4"/>
          <a:stretch/>
        </p:blipFill>
        <p:spPr>
          <a:xfrm>
            <a:off x="4879800" y="1523880"/>
            <a:ext cx="3942000" cy="40388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3" descr="n5550512"/>
          <p:cNvPicPr/>
          <p:nvPr/>
        </p:nvPicPr>
        <p:blipFill>
          <a:blip r:embed="rId5"/>
          <a:stretch/>
        </p:blipFill>
        <p:spPr>
          <a:xfrm>
            <a:off x="609480" y="1295280"/>
            <a:ext cx="822960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8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8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o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38120" y="1599840"/>
            <a:ext cx="4876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rsa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nkle b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 b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al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Articulates with the tibia and fibula; has no muscle attach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lcane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heel b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tarsals: 5 b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langes: 14 per f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9" descr="talus2"/>
          <p:cNvPicPr/>
          <p:nvPr/>
        </p:nvPicPr>
        <p:blipFill>
          <a:blip r:embed="rId5"/>
          <a:stretch/>
        </p:blipFill>
        <p:spPr>
          <a:xfrm>
            <a:off x="0" y="1676520"/>
            <a:ext cx="43434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8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8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8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8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8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8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8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8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8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8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8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8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8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8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8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8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8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8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8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ctoral Girdle (shoulder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257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vicl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ka: collarb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iculates with the sternum and the scap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s make the shoulder joint and an attachment point for liga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8" descr="shoulder"/>
          <p:cNvPicPr/>
          <p:nvPr/>
        </p:nvPicPr>
        <p:blipFill>
          <a:blip r:embed="rId3"/>
          <a:stretch/>
        </p:blipFill>
        <p:spPr>
          <a:xfrm>
            <a:off x="5486400" y="1752480"/>
            <a:ext cx="3657600" cy="3632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2120" y="4267080"/>
            <a:ext cx="3352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ctoral Girdle (shoulder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724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capul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ka shoulder bl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omion: the end of the spine that forms the shoulder j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enoid Cavity: a “pocket” for the head of the hume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ape of the scapula allows for muscles to att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7" descr="post-scapula"/>
          <p:cNvPicPr/>
          <p:nvPr/>
        </p:nvPicPr>
        <p:blipFill>
          <a:blip r:embed="rId3"/>
          <a:stretch/>
        </p:blipFill>
        <p:spPr>
          <a:xfrm>
            <a:off x="4876920" y="1600200"/>
            <a:ext cx="3813120" cy="2860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shoulder_joint"/>
          <p:cNvPicPr/>
          <p:nvPr/>
        </p:nvPicPr>
        <p:blipFill>
          <a:blip r:embed="rId4"/>
          <a:stretch/>
        </p:blipFill>
        <p:spPr>
          <a:xfrm>
            <a:off x="6172200" y="43434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m Bo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e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articulates with the glenoid ca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pitulu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rounded knob that articulates with the radi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ochle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articulates with the ul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8" descr="HumerusAnt0660"/>
          <p:cNvPicPr/>
          <p:nvPr/>
        </p:nvPicPr>
        <p:blipFill>
          <a:blip r:embed="rId3"/>
          <a:stretch/>
        </p:blipFill>
        <p:spPr>
          <a:xfrm>
            <a:off x="6019920" y="1600200"/>
            <a:ext cx="2743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lna and Radi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ln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medial side of the forea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ochlear Not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urved area that receives the trochlea of the hume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di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ateral side of the forea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: articulates with the capitulum of the hume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8" descr="ulna"/>
          <p:cNvPicPr/>
          <p:nvPr/>
        </p:nvPicPr>
        <p:blipFill>
          <a:blip r:embed="rId4"/>
          <a:stretch/>
        </p:blipFill>
        <p:spPr>
          <a:xfrm>
            <a:off x="5029200" y="1600200"/>
            <a:ext cx="3875040" cy="40384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radm"/>
          <p:cNvPicPr/>
          <p:nvPr/>
        </p:nvPicPr>
        <p:blipFill>
          <a:blip r:embed="rId5"/>
          <a:stretch/>
        </p:blipFill>
        <p:spPr>
          <a:xfrm>
            <a:off x="5029200" y="16002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8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Wrist, Hand, Fing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nes in each han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pals: 8 bon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carpals: 5 b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langes: 14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7" descr="Go to fullsize image"/>
          <p:cNvPicPr/>
          <p:nvPr/>
        </p:nvPicPr>
        <p:blipFill>
          <a:blip r:embed="rId6"/>
          <a:stretch/>
        </p:blipFill>
        <p:spPr>
          <a:xfrm>
            <a:off x="6019920" y="1600200"/>
            <a:ext cx="25304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lv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95324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xal Bon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The hipbones that are made of three fused b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ium: superior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chium: inferior and pos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is: inferior and a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etabulum: that pocket found where the bone f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13" descr="HIP"/>
          <p:cNvPicPr/>
          <p:nvPr/>
        </p:nvPicPr>
        <p:blipFill>
          <a:blip r:embed="rId4"/>
          <a:stretch/>
        </p:blipFill>
        <p:spPr>
          <a:xfrm>
            <a:off x="5334120" y="1981080"/>
            <a:ext cx="380988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ude or Dudett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7" descr="ei_0291"/>
          <p:cNvPicPr/>
          <p:nvPr/>
        </p:nvPicPr>
        <p:blipFill>
          <a:blip r:embed="rId1"/>
          <a:stretch/>
        </p:blipFill>
        <p:spPr>
          <a:xfrm>
            <a:off x="4495680" y="1523880"/>
            <a:ext cx="4038840" cy="3048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ei_0179"/>
          <p:cNvPicPr/>
          <p:nvPr/>
        </p:nvPicPr>
        <p:blipFill>
          <a:blip r:embed="rId2"/>
          <a:stretch/>
        </p:blipFill>
        <p:spPr>
          <a:xfrm>
            <a:off x="304920" y="1523880"/>
            <a:ext cx="40384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3"/>
          <p:cNvSpPr/>
          <p:nvPr/>
        </p:nvSpPr>
        <p:spPr>
          <a:xfrm>
            <a:off x="752040" y="4761000"/>
            <a:ext cx="7007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male inlet (superior opening) is larger and more circu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male bones are lighter and more th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male Ilia flare more later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male ischial spines are shorter; outlet (inferior opening) is lar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male pubic arch is more round as the bones are at a great ang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ice Leg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724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mu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ongest, heaviest, strongest bone in the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d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ticulates with the acetabul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eater and lesser trochanter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uscle attachment 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al and Lateral Condy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articulate with the tib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8" descr="6868945"/>
          <p:cNvPicPr/>
          <p:nvPr/>
        </p:nvPicPr>
        <p:blipFill>
          <a:blip r:embed="rId3"/>
          <a:stretch/>
        </p:blipFill>
        <p:spPr>
          <a:xfrm>
            <a:off x="4952880" y="1600200"/>
            <a:ext cx="3810240" cy="3048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femur%2520upper%2520portion"/>
          <p:cNvPicPr/>
          <p:nvPr/>
        </p:nvPicPr>
        <p:blipFill>
          <a:blip r:embed="rId4"/>
          <a:stretch/>
        </p:blipFill>
        <p:spPr>
          <a:xfrm>
            <a:off x="4876920" y="1295280"/>
            <a:ext cx="3905280" cy="50864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2" descr="knee_tibosteo_anatomy01"/>
          <p:cNvPicPr/>
          <p:nvPr/>
        </p:nvPicPr>
        <p:blipFill>
          <a:blip r:embed="rId5"/>
          <a:stretch/>
        </p:blipFill>
        <p:spPr>
          <a:xfrm>
            <a:off x="4800600" y="1295280"/>
            <a:ext cx="4343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01:48:22Z</dcterms:created>
  <dc:creator>Jeff Burghardt</dc:creator>
  <dc:description/>
  <dc:language>en-US</dc:language>
  <cp:lastModifiedBy>Administrator</cp:lastModifiedBy>
  <dcterms:modified xsi:type="dcterms:W3CDTF">2010-07-19T12:51:55Z</dcterms:modified>
  <cp:revision>8</cp:revision>
  <dc:subject/>
  <dc:title>Chapter 5: Skeletal System The Appendicular Skeleton</dc:title>
</cp:coreProperties>
</file>